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9.gif" ContentType="image/gif"/>
  <Override PartName="/ppt/media/image6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18.jpeg" ContentType="image/jpeg"/>
  <Override PartName="/ppt/media/image25.gif" ContentType="image/gif"/>
  <Override PartName="/ppt/media/image32.gif" ContentType="image/gif"/>
  <Override PartName="/ppt/media/image2.gif" ContentType="image/gif"/>
  <Override PartName="/ppt/media/whoosh.wav" ContentType="audio/x-wav"/>
  <Override PartName="/ppt/media/image30.gif" ContentType="image/gif"/>
  <Override PartName="/ppt/media/image5.gif" ContentType="image/gif"/>
  <Override PartName="/ppt/media/image28.gif" ContentType="image/gif"/>
  <Override PartName="/ppt/media/image10.gif" ContentType="image/gif"/>
  <Override PartName="/ppt/media/image34.gif" ContentType="image/gif"/>
  <Override PartName="/ppt/media/image12.jpeg" ContentType="image/jpeg"/>
  <Override PartName="/ppt/media/image4.png" ContentType="image/png"/>
  <Override PartName="/ppt/media/image24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13.jpeg" ContentType="image/jpeg"/>
  <Override PartName="/ppt/media/image20.gif" ContentType="image/gif"/>
  <Override PartName="/ppt/media/image31.jpeg" ContentType="image/jpeg"/>
  <Override PartName="/ppt/media/image14.gif" ContentType="image/gif"/>
  <Override PartName="/ppt/media/image1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554B-F998-409D-A56A-F35830C46FF1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ED8A-616E-4306-BC88-B3FA00E2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F30B-A534-4A6E-A022-286C82FE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334-30D6-400D-B0DB-016DED7E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4D0A-A21C-447B-992B-24F3573E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45EC-0587-4A96-8D65-1D04C7A3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051-10B3-4967-8BB3-5B041901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9CB-E2AD-488E-9E24-BD1F5CE6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E75B-6FAF-493A-A4BA-2D4E2C8F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BC7D-2AFA-4372-AADE-40568BA3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AA14-9047-43EC-8EE3-9141CE4F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41D-7F20-4CFA-BEEC-54EEC723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DEE-CD01-4829-A6FD-44338F86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D8A0-1620-41D2-84C5-D9CE61816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Poster Bodoni"/>
              </a:rPr>
              <a:t>BY : 1-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arwars.mid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>
            <a:off x="685800" y="1447920"/>
            <a:ext cx="7924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Medium"/>
              </a:rPr>
              <a:t>AIR AND SPACE ABC BOOK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Kitty Haw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5800" y="42670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Picture 5" descr="A:\kittyhawk.jpg"/>
          <p:cNvPicPr/>
          <p:nvPr/>
        </p:nvPicPr>
        <p:blipFill>
          <a:blip r:embed="rId1"/>
          <a:stretch/>
        </p:blipFill>
        <p:spPr>
          <a:xfrm>
            <a:off x="990720" y="1447920"/>
            <a:ext cx="1960560" cy="2793960"/>
          </a:xfrm>
          <a:prstGeom prst="rect">
            <a:avLst/>
          </a:prstGeom>
          <a:ln w="0">
            <a:noFill/>
          </a:ln>
        </p:spPr>
      </p:pic>
      <p:pic>
        <p:nvPicPr>
          <p:cNvPr id="99" name="startrek.mid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:\monument.jpg"/>
          <p:cNvPicPr/>
          <p:nvPr/>
        </p:nvPicPr>
        <p:blipFill>
          <a:blip r:embed="rId3"/>
          <a:stretch/>
        </p:blipFill>
        <p:spPr>
          <a:xfrm>
            <a:off x="6183360" y="1371600"/>
            <a:ext cx="2116080" cy="289548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lift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14400" y="4114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atch the space shuttle go up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4" descr="A:\space_shuttle_launch_md_wht.gif"/>
          <p:cNvPicPr/>
          <p:nvPr/>
        </p:nvPicPr>
        <p:blipFill>
          <a:blip r:embed="rId1"/>
          <a:stretch/>
        </p:blipFill>
        <p:spPr>
          <a:xfrm>
            <a:off x="4343400" y="1905120"/>
            <a:ext cx="72072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M is for monkey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33520" y="2209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monkey  was  the first animal to go into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8" name="Picture 4" descr="A:\monkey5.gif"/>
          <p:cNvPicPr/>
          <p:nvPr/>
        </p:nvPicPr>
        <p:blipFill>
          <a:blip r:embed="rId1"/>
          <a:stretch/>
        </p:blipFill>
        <p:spPr>
          <a:xfrm>
            <a:off x="2514600" y="3733920"/>
            <a:ext cx="3809880" cy="2601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NA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080" y="2438280"/>
            <a:ext cx="769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NASA is the agency that tracks space vehicles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2" name="Picture 4" descr="A:\nasa_logo.jpg"/>
          <p:cNvPicPr/>
          <p:nvPr/>
        </p:nvPicPr>
        <p:blipFill>
          <a:blip r:embed="rId1"/>
          <a:stretch/>
        </p:blipFill>
        <p:spPr>
          <a:xfrm>
            <a:off x="457200" y="4495680"/>
            <a:ext cx="2438280" cy="213372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O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Orville Wr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38080" y="22096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Orville Wright was the first man to fly in an air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6" name="Picture 5" descr="A:\wrightbrothers.jpg"/>
          <p:cNvPicPr/>
          <p:nvPr/>
        </p:nvPicPr>
        <p:blipFill>
          <a:blip r:embed="rId1"/>
          <a:stretch/>
        </p:blipFill>
        <p:spPr>
          <a:xfrm>
            <a:off x="2666880" y="3352680"/>
            <a:ext cx="3962520" cy="314496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P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pilo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905120" y="44956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pilot is someone who drives a plan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4" descr="A:\PILOT.JPG"/>
          <p:cNvPicPr/>
          <p:nvPr/>
        </p:nvPicPr>
        <p:blipFill>
          <a:blip r:embed="rId1"/>
          <a:stretch/>
        </p:blipFill>
        <p:spPr>
          <a:xfrm>
            <a:off x="2514600" y="175248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121" name="startrek_ds9_0.mid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Q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questio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14400" y="24382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e found answers to many of our questions when we did our projec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" name="Picture 5" descr="A:\SKYWATCH.GIF"/>
          <p:cNvPicPr/>
          <p:nvPr/>
        </p:nvPicPr>
        <p:blipFill>
          <a:blip r:embed="rId1"/>
          <a:stretch/>
        </p:blipFill>
        <p:spPr>
          <a:xfrm>
            <a:off x="4038480" y="4419720"/>
            <a:ext cx="1447920" cy="181764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R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rocke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90720" y="28954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Rockets are vehicles that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" name="Picture 4" descr="A:\SMRCKE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592280" cy="350496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spitf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438280" y="19051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pitfire is a army 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828800" y="3048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S is also for satellite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066680" y="4648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atellite is something that twirls in space to hel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5" name="Picture 7" descr="A:\Satellite-01.gif"/>
          <p:cNvPicPr/>
          <p:nvPr/>
        </p:nvPicPr>
        <p:blipFill>
          <a:blip r:embed="rId1"/>
          <a:stretch/>
        </p:blipFill>
        <p:spPr>
          <a:xfrm>
            <a:off x="228600" y="3124080"/>
            <a:ext cx="857160" cy="342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A:\SPITFIRE.JPG"/>
          <p:cNvPicPr/>
          <p:nvPr/>
        </p:nvPicPr>
        <p:blipFill>
          <a:blip r:embed="rId2"/>
          <a:stretch/>
        </p:blipFill>
        <p:spPr>
          <a:xfrm>
            <a:off x="7238880" y="685800"/>
            <a:ext cx="1524240" cy="102888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T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ake 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28600" y="27432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752480" y="24382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is is when an airplane leaves the ground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1" name="Picture 5" descr="A:\plane taking off.gif"/>
          <p:cNvPicPr/>
          <p:nvPr/>
        </p:nvPicPr>
        <p:blipFill>
          <a:blip r:embed="rId1"/>
          <a:stretch/>
        </p:blipFill>
        <p:spPr>
          <a:xfrm>
            <a:off x="2819520" y="4495680"/>
            <a:ext cx="3200400" cy="1803600"/>
          </a:xfrm>
          <a:prstGeom prst="rect">
            <a:avLst/>
          </a:prstGeom>
          <a:ln w="0">
            <a:noFill/>
          </a:ln>
        </p:spPr>
      </p:pic>
      <p:pic>
        <p:nvPicPr>
          <p:cNvPr id="142" name="startrek6undiscvrdcntry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6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Astronau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:\astronaut.gif"/>
          <p:cNvPicPr/>
          <p:nvPr/>
        </p:nvPicPr>
        <p:blipFill>
          <a:blip r:embed="rId1"/>
          <a:stretch/>
        </p:blipFill>
        <p:spPr>
          <a:xfrm>
            <a:off x="380880" y="762120"/>
            <a:ext cx="1905120" cy="1630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828800" y="1600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stronauts are people who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09480" y="2819520"/>
            <a:ext cx="8077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A is also for Neil Armstrong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He was the first man to walk on the moon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" name="Picture 7" descr="A:\astronaut_e0.gif"/>
          <p:cNvPicPr/>
          <p:nvPr/>
        </p:nvPicPr>
        <p:blipFill>
          <a:blip r:embed="rId2"/>
          <a:stretch/>
        </p:blipFill>
        <p:spPr>
          <a:xfrm>
            <a:off x="2362320" y="5257800"/>
            <a:ext cx="4343400" cy="101772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U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unidentified flying objec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A:\SPINUFO.GIF"/>
          <p:cNvPicPr/>
          <p:nvPr/>
        </p:nvPicPr>
        <p:blipFill>
          <a:blip r:embed="rId1"/>
          <a:stretch/>
        </p:blipFill>
        <p:spPr>
          <a:xfrm>
            <a:off x="7010280" y="1143000"/>
            <a:ext cx="1828800" cy="1336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A:\SANTA51.GIF"/>
          <p:cNvPicPr/>
          <p:nvPr/>
        </p:nvPicPr>
        <p:blipFill>
          <a:blip r:embed="rId2"/>
          <a:stretch/>
        </p:blipFill>
        <p:spPr>
          <a:xfrm>
            <a:off x="1405080" y="3218040"/>
            <a:ext cx="6332400" cy="42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838080" y="38862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Is this an unidentified flying object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V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velocit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38080" y="22860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Velocity is how fast a space ship or airplane travel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1" name="Picture 4" descr="A:\AIRPLA~1.GIF"/>
          <p:cNvPicPr/>
          <p:nvPr/>
        </p:nvPicPr>
        <p:blipFill>
          <a:blip r:embed="rId1"/>
          <a:stretch/>
        </p:blipFill>
        <p:spPr>
          <a:xfrm>
            <a:off x="1981080" y="3886200"/>
            <a:ext cx="5257800" cy="166536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W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the Wright broth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90720" y="480060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5" name="Picture 4" descr="A:\WRIGHT2.JPG"/>
          <p:cNvPicPr/>
          <p:nvPr/>
        </p:nvPicPr>
        <p:blipFill>
          <a:blip r:embed="rId1"/>
          <a:stretch/>
        </p:blipFill>
        <p:spPr>
          <a:xfrm>
            <a:off x="762120" y="1523880"/>
            <a:ext cx="2522520" cy="3048120"/>
          </a:xfrm>
          <a:prstGeom prst="rect">
            <a:avLst/>
          </a:prstGeom>
          <a:ln w="0">
            <a:noFill/>
          </a:ln>
        </p:spPr>
      </p:pic>
      <p:pic>
        <p:nvPicPr>
          <p:cNvPr id="156" name="startrek_voy_0.mid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e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plo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A:\animoon.gif"/>
          <p:cNvPicPr/>
          <p:nvPr/>
        </p:nvPicPr>
        <p:blipFill>
          <a:blip r:embed="rId1"/>
          <a:stretch/>
        </p:blipFill>
        <p:spPr>
          <a:xfrm>
            <a:off x="525780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A:\x2.gif"/>
          <p:cNvPicPr/>
          <p:nvPr/>
        </p:nvPicPr>
        <p:blipFill>
          <a:blip r:embed="rId2"/>
          <a:stretch/>
        </p:blipFill>
        <p:spPr>
          <a:xfrm>
            <a:off x="2362320" y="609480"/>
            <a:ext cx="1523880" cy="9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A:\starship.gif"/>
          <p:cNvPicPr/>
          <p:nvPr/>
        </p:nvPicPr>
        <p:blipFill>
          <a:blip r:embed="rId3"/>
          <a:stretch/>
        </p:blipFill>
        <p:spPr>
          <a:xfrm>
            <a:off x="533520" y="3322800"/>
            <a:ext cx="3581280" cy="1217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9"/>
          <p:cNvSpPr/>
          <p:nvPr/>
        </p:nvSpPr>
        <p:spPr>
          <a:xfrm>
            <a:off x="4724280" y="259092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Y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Yuri Gagar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120" y="4114800"/>
            <a:ext cx="7238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Yuri Gagarin was the first man to go into spac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He was from the Soviet Uni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6" name="Picture 4" descr="A:\yuri.jpg"/>
          <p:cNvPicPr/>
          <p:nvPr/>
        </p:nvPicPr>
        <p:blipFill>
          <a:blip r:embed="rId1"/>
          <a:stretch/>
        </p:blipFill>
        <p:spPr>
          <a:xfrm>
            <a:off x="3565440" y="1752480"/>
            <a:ext cx="1565280" cy="213372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zeppel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838080" y="2133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zeppelin looks like a blim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0" name="Picture 4" descr="A:\BLIMP-03.GIF"/>
          <p:cNvPicPr/>
          <p:nvPr/>
        </p:nvPicPr>
        <p:blipFill>
          <a:blip r:embed="rId1"/>
          <a:stretch/>
        </p:blipFill>
        <p:spPr>
          <a:xfrm>
            <a:off x="3276720" y="3424320"/>
            <a:ext cx="2895480" cy="2555640"/>
          </a:xfrm>
          <a:prstGeom prst="rect">
            <a:avLst/>
          </a:prstGeom>
          <a:ln w="0">
            <a:noFill/>
          </a:ln>
        </p:spPr>
      </p:pic>
      <p:sp>
        <p:nvSpPr>
          <p:cNvPr id="17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A:\firew.gif"/>
          <p:cNvPicPr/>
          <p:nvPr/>
        </p:nvPicPr>
        <p:blipFill>
          <a:blip r:embed="rId1"/>
          <a:stretch/>
        </p:blipFill>
        <p:spPr>
          <a:xfrm>
            <a:off x="685800" y="514440"/>
            <a:ext cx="7772400" cy="5829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A:\spacedog.gif"/>
          <p:cNvPicPr/>
          <p:nvPr/>
        </p:nvPicPr>
        <p:blipFill>
          <a:blip r:embed="rId2"/>
          <a:stretch/>
        </p:blipFill>
        <p:spPr>
          <a:xfrm>
            <a:off x="1371600" y="5105520"/>
            <a:ext cx="82224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1295280" y="23623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Poster Bodoni"/>
              </a:rPr>
              <a:t>The End!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51814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entury Gothic"/>
              </a:rPr>
              <a:t>Be sure to check out the credits on the next pag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990720" y="762120"/>
            <a:ext cx="6629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ritten and produced by: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990720" y="23623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447920" y="198108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581280" y="1981080"/>
            <a:ext cx="2057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Zach T., Lydia ElizabethKatelyn Angelo Zach B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09880" y="213372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990720" y="2209680"/>
            <a:ext cx="198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Kaylyn Cody Gabriella Hunter Anthon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5867280" y="2133720"/>
            <a:ext cx="251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Sean Rebekah Christopher Robbie Shann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1295280" y="52578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With a little help from Mrs. Maj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B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bomb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95280" y="19810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295280" y="198108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 plane, you know it is a bomb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41911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Cosmonaut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066680" y="5486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osmonaut is a name for Russian  Astronau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3" name="Picture 8" descr="A:\BOMBER.GIF"/>
          <p:cNvPicPr/>
          <p:nvPr/>
        </p:nvPicPr>
        <p:blipFill>
          <a:blip r:embed="rId1"/>
          <a:stretch/>
        </p:blipFill>
        <p:spPr>
          <a:xfrm>
            <a:off x="380880" y="2590920"/>
            <a:ext cx="1463760" cy="146340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D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duck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14400" y="20574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duck was the first creature to go up in a hot air ballo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7" name="Picture 4" descr="A:\ducks_013.gif"/>
          <p:cNvPicPr/>
          <p:nvPr/>
        </p:nvPicPr>
        <p:blipFill>
          <a:blip r:embed="rId1"/>
          <a:stretch/>
        </p:blipFill>
        <p:spPr>
          <a:xfrm>
            <a:off x="3733920" y="3200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A:\Balloonw.gif"/>
          <p:cNvPicPr/>
          <p:nvPr/>
        </p:nvPicPr>
        <p:blipFill>
          <a:blip r:embed="rId2"/>
          <a:stretch/>
        </p:blipFill>
        <p:spPr>
          <a:xfrm>
            <a:off x="704880" y="4038480"/>
            <a:ext cx="220032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E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Extra terrestria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35053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xtra terrestrials is a long name for alien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2" name="Picture 4" descr="A:\Alien98.gif"/>
          <p:cNvPicPr/>
          <p:nvPr/>
        </p:nvPicPr>
        <p:blipFill>
          <a:blip r:embed="rId1"/>
          <a:stretch/>
        </p:blipFill>
        <p:spPr>
          <a:xfrm>
            <a:off x="457200" y="0"/>
            <a:ext cx="731880" cy="754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A:\Alien98.gif"/>
          <p:cNvPicPr/>
          <p:nvPr/>
        </p:nvPicPr>
        <p:blipFill>
          <a:blip r:embed="rId2"/>
          <a:stretch/>
        </p:blipFill>
        <p:spPr>
          <a:xfrm>
            <a:off x="3733920" y="1828800"/>
            <a:ext cx="155232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A:\Alien98.gif"/>
          <p:cNvPicPr/>
          <p:nvPr/>
        </p:nvPicPr>
        <p:blipFill>
          <a:blip r:embed="rId3"/>
          <a:stretch/>
        </p:blipFill>
        <p:spPr>
          <a:xfrm>
            <a:off x="6095880" y="4724280"/>
            <a:ext cx="1552680" cy="160020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F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figh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1828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n airplane it means it is a figh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80880" y="38098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G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glider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219320" y="54100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glider is an airplane without an engi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0" name="Picture 6" descr="A:\planes_flying_around_world_md_wh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903320" cy="2209680"/>
          </a:xfrm>
          <a:prstGeom prst="rect">
            <a:avLst/>
          </a:prstGeom>
          <a:ln w="0">
            <a:noFill/>
          </a:ln>
        </p:spPr>
      </p:pic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helicop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90720" y="2895480"/>
            <a:ext cx="67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helicopter has propellers.  A helicopter lifts straight up and dow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Picture 5" descr="A:\helicoptr.gif"/>
          <p:cNvPicPr/>
          <p:nvPr/>
        </p:nvPicPr>
        <p:blipFill>
          <a:blip r:embed="rId1"/>
          <a:stretch/>
        </p:blipFill>
        <p:spPr>
          <a:xfrm>
            <a:off x="3200400" y="1600200"/>
            <a:ext cx="2286000" cy="1106640"/>
          </a:xfrm>
          <a:prstGeom prst="rect">
            <a:avLst/>
          </a:prstGeom>
          <a:ln w="0">
            <a:noFill/>
          </a:ln>
        </p:spPr>
      </p:pic>
      <p:pic>
        <p:nvPicPr>
          <p:cNvPr id="85" name="startrek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I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international space st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A:\space_station_rotate_md_wht.gif"/>
          <p:cNvPicPr/>
          <p:nvPr/>
        </p:nvPicPr>
        <p:blipFill>
          <a:blip r:embed="rId1"/>
          <a:stretch/>
        </p:blipFill>
        <p:spPr>
          <a:xfrm>
            <a:off x="327672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143000" y="5105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It is called the ISS.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je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0200" y="205740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600200" y="26668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Jets are planes without propeller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icture 6" descr="A:\JASIO1.GIF"/>
          <p:cNvPicPr/>
          <p:nvPr/>
        </p:nvPicPr>
        <p:blipFill>
          <a:blip r:embed="rId1"/>
          <a:stretch/>
        </p:blipFill>
        <p:spPr>
          <a:xfrm>
            <a:off x="4724280" y="4876920"/>
            <a:ext cx="4038840" cy="14796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2:45:19Z</dcterms:created>
  <dc:creator>Mom</dc:creator>
  <dc:description/>
  <dc:language>en-US</dc:language>
  <cp:lastModifiedBy>LEGION</cp:lastModifiedBy>
  <dcterms:modified xsi:type="dcterms:W3CDTF">2018-03-22T08:48:34Z</dcterms:modified>
  <cp:revision>25</cp:revision>
  <dc:subject/>
  <dc:title>A is for Astronaut</dc:title>
</cp:coreProperties>
</file>